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1B1C-1604-4A11-B30E-1F6BF797D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ACF4-35F8-4503-BF5D-E4AB12857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8342-D1C2-4E79-BCF8-8FF07C1EC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56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48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7C0C-D25F-4AF4-BD31-C79C690B6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55A8-BD3B-44D2-810C-E4B3C7C2B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48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AF7D-601A-4E49-AB2D-86CF51201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A5C0-C4ED-4676-AE1A-0117273AF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DF51-3311-49B5-8BB6-01D78473B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5557-EE60-48E4-B3F4-94C10A400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AA8F-2BB9-4C02-B6C7-43E6173CA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4CA5-F1B8-4EFA-AC9C-39EDAA38C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57E2-7DFD-44DB-A230-6BBD523EB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7000" y="6035760"/>
            <a:ext cx="881208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2441-1190-408E-B311-4F2E72FD94B9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920" y="5711760"/>
            <a:ext cx="8812080" cy="83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The Contribution of MNCs to U.S. Productivity Growth, 1977-2000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1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By Carol Corrado, Paul Lengermann, and Larry Slifman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U.S. Federal Reserve Board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409896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Ray Mataloni, discu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BER CRIW Conference on International Service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April 28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Results: The Rise of Service Industrie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2438280"/>
          <a:ext cx="7316640" cy="1486080"/>
        </p:xfrm>
        <a:graphic>
          <a:graphicData uri="http://schemas.openxmlformats.org/drawingml/2006/table">
            <a:tbl>
              <a:tblPr/>
              <a:tblGrid>
                <a:gridCol w="3733920"/>
                <a:gridCol w="1290600"/>
                <a:gridCol w="1149120"/>
                <a:gridCol w="11430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-manufactu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ufactu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066680" y="1600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hare of GDP of Nonfinancial U.S.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BB46-1805-4399-8826-C8F277AC9C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67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Results: Rapid Growth in MNC Productivity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600200"/>
          <a:ext cx="7391160" cy="4421160"/>
        </p:xfrm>
        <a:graphic>
          <a:graphicData uri="http://schemas.openxmlformats.org/drawingml/2006/table">
            <a:tbl>
              <a:tblPr/>
              <a:tblGrid>
                <a:gridCol w="3889080"/>
                <a:gridCol w="17496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77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95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ivate busi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financial corpo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N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.S. par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.S. affili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mestically ori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inancial corpo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corporate busi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1219320" y="1066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verage Annual Growth in Labo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9926-AE21-4EBB-AD57-246D8A7019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67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Results: Parents Contribute Mor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than U.S. Affiliate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600200"/>
          <a:ext cx="7391160" cy="3392640"/>
        </p:xfrm>
        <a:graphic>
          <a:graphicData uri="http://schemas.openxmlformats.org/drawingml/2006/table">
            <a:tbl>
              <a:tblPr/>
              <a:tblGrid>
                <a:gridCol w="3889080"/>
                <a:gridCol w="17496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77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95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ivate busi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tributions to grow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financial MN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.S. par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.S. affili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219320" y="1066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verage Annual Growth in Labo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EB03-21A5-4BF4-B066-BEA009666F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67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Results: MNC Growth Broadly Based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600200"/>
          <a:ext cx="7010280" cy="4302000"/>
        </p:xfrm>
        <a:graphic>
          <a:graphicData uri="http://schemas.openxmlformats.org/drawingml/2006/table">
            <a:tbl>
              <a:tblPr/>
              <a:tblGrid>
                <a:gridCol w="3657600"/>
                <a:gridCol w="1690560"/>
                <a:gridCol w="1662120"/>
              </a:tblGrid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77-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95-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financial corpo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N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ufactu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T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ther manufactu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-manufactu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mestically 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ufactu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-manufactu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1371600" y="1066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verage Annual Growth in Labor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A344-4CAE-4518-9B46-73CFDC948B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ontribution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hancements to BEA MNC Da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st estimates of labor productivity of U.S. parent compan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st time-series estimates of labor productivity of U.S. affilia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mpirical bridge between FDI and productivity literatu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9A12-0365-4BC8-99FC-BD8F6285CB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Discussion: Area for Future Research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has the productivity of MNCs grown faster than that of other U.S. businesse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60840" indent="-517320">
              <a:spcBef>
                <a:spcPts val="700"/>
              </a:spcBef>
              <a:buClr>
                <a:srgbClr val="c692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ising outsourcing from foreign affilia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30200" indent="-443160">
              <a:spcBef>
                <a:spcPts val="601"/>
              </a:spcBef>
              <a:buClr>
                <a:srgbClr val="c69200"/>
              </a:buClr>
              <a:buFont typeface="Trebuchet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ing use of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 by foreign affilia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60840" indent="-517320">
              <a:spcBef>
                <a:spcPts val="700"/>
              </a:spcBef>
              <a:buClr>
                <a:srgbClr val="c692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ising outsourcing from unaffiliated pers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60840" indent="-517320">
              <a:spcBef>
                <a:spcPts val="700"/>
              </a:spcBef>
              <a:buClr>
                <a:srgbClr val="c692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reater capital intens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60840" indent="-517320">
              <a:spcBef>
                <a:spcPts val="700"/>
              </a:spcBef>
              <a:buClr>
                <a:srgbClr val="c692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reater stock of knowledge capit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60840" indent="-517320">
              <a:spcBef>
                <a:spcPts val="700"/>
              </a:spcBef>
              <a:buClr>
                <a:srgbClr val="c692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ustry mix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B247-54BD-407F-B5F4-72A9B817B1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Outsourcing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95280" y="1828800"/>
          <a:ext cx="601992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0199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990720"/>
            <a:ext cx="8991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lue-Added Share of Sales (VASS) and Value Added per Employee (VAPE)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.S. Parent Companies: Average Annual Rate of Growth in 1977-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563868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22 data points represent averages for industry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2270-A632-4B0E-8575-E05FAFDA6F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oreign 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D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990720"/>
            <a:ext cx="8991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ffiliate Share of 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 by MNC (AS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) and Value Added per Employee (VAPE)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.S. Parent Companies: Average Annual Rate of Growth in 1982-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2057400"/>
          <a:ext cx="6402240" cy="329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6402240" cy="32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52280" y="563868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18 data points represent averages for industry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4D57-33D5-4EDC-9BE2-E9A4F8C600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apital Intensity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828800" y="1905120"/>
          <a:ext cx="518148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518148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9907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lue Added per Employee (VAPE) and Net P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 per Employe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.S. Parent Companies (PPEEM): Average Annual Rate of Growth in 1977-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563868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22 data points represent averages for industry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D782-12FA-4E36-8A0F-2E9A0FF43E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ummary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Combine BEA GPO and MNC data to determine contribution of MNCs to U.S. productivity in 1980’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1990’s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ndings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NC share of economy st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ut MNCs have been much more successful at rationalizing labor inputs than other U.S. fir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60E8-0BCF-49C0-BB82-296BD9E487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ummary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ndings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or productivity of NF MNC’s grew twice as fast as other NF U.S. corporations in 1980’s and 1990’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F MNC’s accounted for all of the pickup in labor productivity of NF U.S. corporations in late 1990’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B-adjusted BEA data on value added by MNC’s by indust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B-adjusted BEA data on GPO by indust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15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F Nonfina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6A1F-CD2A-4D72-A9C9-0AAFEBC0E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Late-1990’s Surge in Labor Productivity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711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55627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Barry P. Bosworth and Jack E. Triplett: “What's New About the New Economy?: IT, Economic Growth and Productivity,”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ookings Economic Pap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ctober 20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371600"/>
            <a:ext cx="838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209680"/>
            <a:ext cx="914400" cy="25909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F9E9-B5EA-4E98-8576-22EB2829D5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ome Possible Explanation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creased capital intensity of produc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creased organizational efficiency within U.S. MNCs through vertical production networ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creased transfer of intangible assets (such as 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 assets) into the United States within U.S. MNC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8C3E-0174-4448-9607-B20D7E21F3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thod: FRB-Adjusted GPO Data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tablishment-bas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ice-deflat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sistent industrial classification over ti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timates of hours work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01E3-8250-4B4D-A1CE-FC9C81EE07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thod: Unadjusted MNC Data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terprise-bas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urrent pric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hanges in industrial classification systems over ti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complete data on hours work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lap between foreign MNCs in the United States and U.S. MNCs investing abroa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8B4C-2D44-4AAD-BCE4-FC515FB4FF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thod: Adjusting the MNC Data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990720"/>
          <a:ext cx="7769160" cy="5018040"/>
        </p:xfrm>
        <a:graphic>
          <a:graphicData uri="http://schemas.openxmlformats.org/drawingml/2006/table">
            <a:tbl>
              <a:tblPr/>
              <a:tblGrid>
                <a:gridCol w="3886200"/>
                <a:gridCol w="3882960"/>
              </a:tblGrid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dju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nterprise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vs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stablis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A sal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employment by in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urrent-price 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A deflators from U.S. GPO by indust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anges in industrial classification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B industry concord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mployees not hours wor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B estimates of hours per employ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ver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A tabul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D19F-80DC-4A13-8D2D-A50283764D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Results: Stable MNC Share of Economy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676520"/>
          <a:ext cx="8610480" cy="3925800"/>
        </p:xfrm>
        <a:graphic>
          <a:graphicData uri="http://schemas.openxmlformats.org/drawingml/2006/table">
            <a:tbl>
              <a:tblPr/>
              <a:tblGrid>
                <a:gridCol w="4394160"/>
                <a:gridCol w="1519200"/>
                <a:gridCol w="1352520"/>
                <a:gridCol w="134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financial (NF) corpo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F MN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.S. par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.S. affili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F domestically ori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inancial corpo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corporate busi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990720" y="1066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hare of GDP of Nonfarm Private U.S.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E7D6-050A-4C00-BAC5-C96480C86A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admin</cp:lastModifiedBy>
  <dcterms:modified xsi:type="dcterms:W3CDTF">2006-05-01T15:20:34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91146455</vt:r8>
  </property>
  <property fmtid="{D5CDD505-2E9C-101B-9397-08002B2CF9AE}" pid="3" name="_AuthorEmail">
    <vt:lpwstr>Raymond.Mataloni@bea.gov</vt:lpwstr>
  </property>
  <property fmtid="{D5CDD505-2E9C-101B-9397-08002B2CF9AE}" pid="4" name="_AuthorEmailDisplayName">
    <vt:lpwstr>Mataloni, Raymond</vt:lpwstr>
  </property>
  <property fmtid="{D5CDD505-2E9C-101B-9397-08002B2CF9AE}" pid="5" name="_EmailSubject">
    <vt:lpwstr>Slides from CRIW Conference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